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9BAE-A11A-4254-B242-B0219C314E8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4F7C-015F-4CC5-B3D4-DDC89DB2B89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ABC1-76D6-404E-BD86-B597621C4C2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0211-B6F8-42B4-9415-8839874265C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15B8-2326-478D-BCF8-F808E466162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5B6E-8A2B-48BF-B701-F2589E673A8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B61A-0809-4093-B120-FA99A1ACB42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E6BE-78B0-4886-8F36-AB7C4BB1383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831A-B6EB-4551-8A4B-C5AA6234835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8C22-B663-4B1E-B7D5-25019171713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CAE8-1245-441F-ACE8-B37490B6AB0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6313-58AC-4244-9F98-3319A91496D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6F9A-87CE-4732-AD7D-985584229CD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99AE-0966-4245-B7AA-320B8060A1F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19AF-4FDB-44DB-B7EF-FB969FEE0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3780-AE21-4C9D-B2ED-B676E5C16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3F6C-D63A-4C0C-B289-10EA6FC83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5AFF-691C-4C79-B4E0-B64CD84740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6FC5-C6F1-4952-BC2D-81E8647C1C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C5AE-D755-447E-81FF-F46CFA128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50DB-ABFE-4957-82EB-12A05770F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57C5-4EF4-4D1E-9945-B82B4B95B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84A6-D714-4595-A8B4-805C38025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401E-8F20-467B-BBEE-1D80EEF14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CE36-0776-4F17-BFA6-88C783800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C37D-8473-42D0-B94C-81EF1B10C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FC44-8DBE-494E-97F1-3F492726E48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빈 파일 업로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4-08T08:53:09Z</dcterms:modified>
  <cp:revision>98</cp:revision>
  <dc:subject/>
  <dc:title>2006년도 식품의약품안전청 공개발표 선정평가    ℹ 사 업 명 :   ℹ 과 제 명 :   ℹ 연 구 비 :   ℹ 신청기관 :   ℹ 주관연구책임자 :</dc:title>
</cp:coreProperties>
</file>